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554-2AD7-43A1-AD34-91282F55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CA4-CC50-484F-8FDD-56FA52E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184-A2BE-48FA-9722-E32DCDE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D9B-DC8C-466C-A463-4BDF1CA9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094-1B6A-46F1-A5A0-24E87C4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2B4-D2C0-4EED-BBF9-82667B5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B17-5F2F-4E77-92FB-C58300F7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B5B-CD7B-40EF-96BE-5C6E5FD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A19-B701-49CB-BF07-16BF0D1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3DA-1581-4D98-801F-BD1595A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BF5-EF5C-4C9F-A715-F077E92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628-A60D-49F6-9D4F-37F7AED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AD4-6DD9-456B-B3E7-42EC3546B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أشيدوا النشيدَ وأوفوا العهودَ </a:t>
            </a:r>
            <a:r>
              <a:rPr b="1" lang="en-US" sz="4000" spc="-1" strike="noStrike">
                <a:solidFill>
                  <a:srgbClr val="ffcc66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وأدّوا السجودَ    لفاد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9166422xbudrJ_ph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990720"/>
            <a:ext cx="3581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لـهُ قـديـرُ              مليكٌ نصير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ربُّ كبيرٌ                  جليلُ المق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77120" y="3808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9166082tqnbVx_ph" descr=""/>
          <p:cNvPicPr/>
          <p:nvPr/>
        </p:nvPicPr>
        <p:blipFill>
          <a:blip r:embed="rId1"/>
          <a:stretch/>
        </p:blipFill>
        <p:spPr>
          <a:xfrm>
            <a:off x="-4413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533520"/>
            <a:ext cx="32767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طفلٍ صغيرٍ                وضيعٍ فقير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مهدٍ حقيرٍ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دا للأن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219320"/>
            <a:ext cx="25909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رجاءُ الشعوبِ              عزاءُ القلوب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بحُب عجيبٍ                 حبانا المَر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7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828800"/>
            <a:ext cx="24382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يا أمَّ فادي                 جميعَ العِبا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يومِ المَعادِ                 هَبينا السلام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9:19Z</dcterms:created>
  <dc:creator>SUZANNE.MD</dc:creator>
  <dc:description/>
  <dc:language>en-US</dc:language>
  <cp:lastModifiedBy>USER</cp:lastModifiedBy>
  <dcterms:modified xsi:type="dcterms:W3CDTF">2002-12-23T19:46:58Z</dcterms:modified>
  <cp:revision>2</cp:revision>
  <dc:subject/>
  <dc:title>PowerPoint Presentation</dc:title>
</cp:coreProperties>
</file>